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0096-C9FA-489E-A570-9641C4155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676C-035C-4CD0-A9B5-8FF91DD30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A2A2-FD99-4AA8-A362-14D644FAB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1A58-7694-469C-8DC3-52F9F0B24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8244-8A01-4528-91A7-139521C85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9273-5D59-4720-A9A2-52691A326C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46A1-F033-4B5E-BF12-14E25A888B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1B36C-BD89-4BA8-B7FB-CE20143E54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75D1F-8E57-4D17-83D5-C571E3F8BB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7CC2F-7360-4059-8EAA-53D343C2B1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0664-2872-4416-8446-0670ACA1F1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C8D7-061B-4D8D-AB2C-E31487A976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6619-784F-4581-9ABB-6F1F9D9511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8EE0F-F63B-42C4-8D47-0813136A69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CA56-625E-441C-AA15-F0E9CBA8B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CC01-17BE-4E6B-9EE1-832EF1B8E6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0622-A201-4CF1-916B-A915714E3A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53E-06FC-4E29-8A8D-CDEAD91A7E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039D-0722-4FF1-96AA-90743B82F0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8DA-FCD9-4B2F-806E-06BBCE3692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054-B1F0-4A98-9A7F-EDF2ECF89F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3D5-5C4A-40A2-AD25-5288921A6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4D7E-0E2F-4FD1-A58D-D49E8C140C0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9CD-1703-4D9C-B040-E5887EB082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A83-E0E7-4D3B-894D-A9C4EFFBCC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A5E0-1309-4E46-87EE-6A93F6C638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CEF-E596-4F65-ACAC-D3329163534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643-E041-4B8C-AF8F-B381FE319C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D83-2D70-4817-9926-757064194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53D-71FD-4C89-BED1-CCABB80126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B3740-035C-4464-97DD-A494170141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F1470-5ED6-4A86-8305-32E0D17CC0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759A6-B2BC-4AF8-8D87-13F3088C6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6CC0-EE4A-4909-8249-3283514DE6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AE451-E5F5-4B74-93B6-5BE6AC90A3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A883B-D93F-486B-910B-2CAD007CFC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F2AA4-1920-48EA-B278-344EFEB55C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86800-B16C-457E-9A92-34E3D80683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ECEBC-1D95-4DFB-ABF0-7E40A191CF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45B44-C5EE-4424-970E-32DF3B1499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4AB01-108B-475F-A0CA-65EA15381F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E7996-B049-4433-A270-A4CB04F82F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9385-3C49-49E0-A1A8-1CC7D19A90C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F5D82-3865-4D9C-9B83-03A1D5AB1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2138-3040-4BD1-A68A-2E8B853A0F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75F4E-7590-4FE9-AB0A-983DFAF3B87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11985-548F-43A0-8BEE-96187D4313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68698-9F64-4997-9A28-957D7FF24A3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52ADF-EBAB-4607-8F19-DB89CE109C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CA206-9D4C-42AB-B4E2-E69C02F5EDF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F7EAF-FD7C-41AC-950C-A1E76142B88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B731B-C57D-40E0-87E4-2D082C33F9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B347-9B2B-4300-8B87-CD48EBB8BD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33483-810B-48F5-86B3-29979E0C8EB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35889-9293-4579-A965-888C26C63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0"/>
            <a:ext cx="7772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5257-7304-4CBD-A3C0-CF888A89279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4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4240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70040" y="42739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42286-58CD-43F1-82B5-BB61BACCD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17900-5B89-45D2-AA2F-E660E4DF0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7080" y="4273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1B57-5F16-4180-8BC1-0D4E906A9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2739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4EB9-568F-4AC3-98BC-756FDF281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A039-083F-4E5A-95E3-7138FF1BE0C5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7F93-E1FB-4BA4-97D5-4A887151A604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480" y="60480"/>
            <a:ext cx="9028080" cy="6711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rot="10800000">
            <a:off x="69840" y="237636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255240" y="6329160"/>
            <a:ext cx="236520" cy="215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06D-7255-4A24-A0A2-CE74F92D9CEC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A12-6593-4678-A458-07A4A9EE2780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rot="10800000">
            <a:off x="68400" y="468288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36400" indent="-228600">
              <a:spcBef>
                <a:spcPts val="601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11080" indent="-228600">
              <a:spcBef>
                <a:spcPts val="601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85760" indent="-228600">
              <a:spcBef>
                <a:spcPts val="601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360440" indent="-228600">
              <a:spcBef>
                <a:spcPts val="601"/>
              </a:spcBef>
              <a:buClr>
                <a:srgbClr val="a28e6a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360440" indent="-228600">
              <a:spcBef>
                <a:spcPts val="601"/>
              </a:spcBef>
              <a:buClr>
                <a:srgbClr val="000000"/>
              </a:buClr>
              <a:buFont typeface="Helvetic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5"/>
          </p:nvPr>
        </p:nvSpPr>
        <p:spPr>
          <a:xfrm>
            <a:off x="255240" y="6329160"/>
            <a:ext cx="236520" cy="215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8A0-5168-4388-BFB2-8B3DDFF1A3C3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174-C3E6-4ECA-9167-796E09E26530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14600" y="53337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Prepared by: Ms. Persi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9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13</a:t>
            </a:r>
            <a:r>
              <a:rPr b="0" lang="en-US" sz="2600" spc="-1" strike="noStrike" baseline="30000">
                <a:solidFill>
                  <a:srgbClr val="696464"/>
                </a:solidFill>
                <a:latin typeface="Lucida Grande"/>
              </a:rPr>
              <a:t>th</a:t>
            </a:r>
            <a:r>
              <a:rPr b="0" lang="en-US" sz="2600" spc="-1" strike="noStrike">
                <a:solidFill>
                  <a:srgbClr val="696464"/>
                </a:solidFill>
                <a:latin typeface="Lucida Grande"/>
              </a:rPr>
              <a:t> January 2011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57200" y="649080"/>
            <a:ext cx="8229600" cy="3184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Gramm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Gerunds &amp; Infinitive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1110-E2E3-4075-8793-895E9128A031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1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990720"/>
          <a:ext cx="8137440" cy="4114800"/>
        </p:xfrm>
        <a:graphic>
          <a:graphicData uri="http://schemas.openxmlformats.org/drawingml/2006/table">
            <a:tbl>
              <a:tblPr/>
              <a:tblGrid>
                <a:gridCol w="1209600"/>
                <a:gridCol w="2067120"/>
                <a:gridCol w="2020680"/>
                <a:gridCol w="2840040"/>
              </a:tblGrid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O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rk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n my garde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fini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ud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t midnigh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op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few minutes ago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q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mo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postpo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o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y home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m consid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 Hawa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iscus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alk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about) 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F008-E1FE-40AD-87DA-8C33001C5B12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2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09480" y="1219320"/>
          <a:ext cx="7924680" cy="2743200"/>
        </p:xfrm>
        <a:graphic>
          <a:graphicData uri="http://schemas.openxmlformats.org/drawingml/2006/table">
            <a:tbl>
              <a:tblPr/>
              <a:tblGrid>
                <a:gridCol w="1981080"/>
                <a:gridCol w="5943600"/>
              </a:tblGrid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wor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sing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on) mov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you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ind opening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 window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uld you please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kee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on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alk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88F-6DBC-421D-9AE7-6D4B298D372C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3 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verbs in the list are NOT followed by </a:t>
            </a:r>
            <a:r>
              <a:rPr b="1" lang="en-US" sz="2600" spc="-1" strike="noStrike">
                <a:solidFill>
                  <a:srgbClr val="000000"/>
                </a:solidFill>
                <a:latin typeface="Lucida Grande"/>
              </a:rPr>
              <a:t>to + simple form of a verb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(an infinitive)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.g. a. I enjoy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wal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n the park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b. Bob finish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study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. I’m think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to go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o Hawaii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743200"/>
            <a:ext cx="1219320" cy="121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15635" y="10800"/>
                  <a:pt x="21600" y="10800"/>
                </a:cubicBezTo>
                <a:cubicBezTo>
                  <a:pt x="1563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5965" y="21600"/>
                  <a:pt x="0" y="21600"/>
                </a:cubicBezTo>
              </a:path>
            </a:pathLst>
          </a:custGeom>
          <a:noFill/>
          <a:ln w="9360">
            <a:solidFill>
              <a:srgbClr val="af34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124080"/>
            <a:ext cx="19940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B6D-8E55-4BAD-BCFC-D2B1B8A224AF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4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gative forms of gerund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09480" y="1981080"/>
          <a:ext cx="8137440" cy="4114800"/>
        </p:xfrm>
        <a:graphic>
          <a:graphicData uri="http://schemas.openxmlformats.org/drawingml/2006/table">
            <a:tbl>
              <a:tblPr/>
              <a:tblGrid>
                <a:gridCol w="1209600"/>
                <a:gridCol w="2295720"/>
                <a:gridCol w="2057400"/>
                <a:gridCol w="2574720"/>
              </a:tblGrid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Su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Ger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Ob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o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enjo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rking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n my garden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fin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ud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t midnigh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av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qu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mok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postp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do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my homework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76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nsid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go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 Hawaii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discu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8334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id 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tal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(about) get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D73-76B3-4B6C-AD85-01CDAB54B901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Infinitive 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25480" y="671400"/>
          <a:ext cx="7924680" cy="6148080"/>
        </p:xfrm>
        <a:graphic>
          <a:graphicData uri="http://schemas.openxmlformats.org/drawingml/2006/table">
            <a:tbl>
              <a:tblPr/>
              <a:tblGrid>
                <a:gridCol w="2641680"/>
                <a:gridCol w="5283000"/>
              </a:tblGrid>
              <a:tr h="4676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+ 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644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554040" indent="-514440">
                        <a:lnSpc>
                          <a:spcPct val="100000"/>
                        </a:lnSpc>
                        <a:buClr>
                          <a:srgbClr val="d34817"/>
                        </a:buClr>
                        <a:buSzPct val="85000"/>
                        <a:buFont typeface="Lucida Grande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m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offered to len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me some money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040" indent="-514440">
                        <a:lnSpc>
                          <a:spcPct val="100000"/>
                        </a:lnSpc>
                        <a:buClr>
                          <a:srgbClr val="d34817"/>
                        </a:buClr>
                        <a:buSzPct val="85000"/>
                        <a:buFont typeface="Lucida Grande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’v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ecided to bu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 new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ome verbs are followed by an infinitiv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N INFINITIVE =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t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+ the simple form of a ver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1991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) I’v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Grande"/>
                          <a:ea typeface="ヒラギノ角ゴ ProN W3"/>
                        </a:rPr>
                        <a:t>decided not to kee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my old car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Negative form: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no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 + 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229644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mmon verbs followed by infini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ant    hope    decide    seem    learn (how)    need    expect    promise    app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like      plan    offer    pretend      would love       intend    agree    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refuse    forget    (can’t) afford    (can’t) wa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5240" y="6330960"/>
            <a:ext cx="236520" cy="216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4F3-4514-43B1-983B-891727E9243D}" type="slidenum">
              <a:rPr b="0" lang="en-US" sz="1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Grande"/>
              </a:rPr>
              <a:t>Verb + Gerund OR Infinitive</a:t>
            </a:r>
            <a:endParaRPr b="0" lang="en-US" sz="4000" spc="-1" strike="noStrike">
              <a:solidFill>
                <a:srgbClr val="696464"/>
              </a:solidFill>
              <a:latin typeface="Lucida Grande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14400" y="635040"/>
          <a:ext cx="7785000" cy="6172200"/>
        </p:xfrm>
        <a:graphic>
          <a:graphicData uri="http://schemas.openxmlformats.org/drawingml/2006/table">
            <a:tbl>
              <a:tblPr/>
              <a:tblGrid>
                <a:gridCol w="2747880"/>
                <a:gridCol w="5037120"/>
              </a:tblGrid>
              <a:tr h="52848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Grande"/>
                          <a:ea typeface="ヒラギノ角ゴ ProN W3"/>
                        </a:rPr>
                        <a:t>Verb + Gerund OR Infinitiv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1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a) It began raining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b) It began to rai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ome verbs are followed by either a gerund or an infinitive. Usually there is no difference in meaning. (a) and (b) have the same meaning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514680">
                <a:tc gridSpan="2"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mmon verbs followed by either a gerund or an 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begin            like**           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start            love**            can’t 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contin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would like        would love    are followed by infinitiv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Lucida Grande"/>
                          <a:ea typeface="ヒラギノ角ゴ ProN W3"/>
                        </a:rPr>
                        <a:t>I would like to go to a movie toni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ylorsadmin</dc:creator>
  <dc:description/>
  <dc:language>en-US</dc:language>
  <cp:lastModifiedBy/>
  <cp:revision>0</cp:revision>
  <dc:subject/>
  <dc:title>Grammar  Modals: can &amp; must</dc:title>
</cp:coreProperties>
</file>